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BCD0-8943-49B6-8F65-68D4AE4B934B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ACAA-3520-4169-B99B-8EA2A1CFD0F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730D-C53D-4580-A464-8950710602A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61880" y="299880"/>
            <a:ext cx="706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Preserving the Scientific Record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x.doi.org/10.1126/science.1203354" TargetMode="External"/><Relationship Id="rId2" Type="http://schemas.openxmlformats.org/officeDocument/2006/relationships/hyperlink" Target="http://research.microsoft.com/en-us/collaboration/fourthparadigm/4th_paradigm_book_part4_lynch.pdf" TargetMode="External"/><Relationship Id="rId3" Type="http://schemas.openxmlformats.org/officeDocument/2006/relationships/hyperlink" Target="http://www.jstage.jst.go.jp/article/dsj/6/0/OD36/_pdf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Stewardship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Preserving the Scientific Record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[Review Date]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cientific record is an aggregation o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ference presentations and proceeding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echnical reports and pre-pri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underlying data, software, and other evidence to support published finding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aggregation is highly distributed acro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ibrar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rch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useum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Cent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-profit publis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vestigator web sit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rpose of 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06060"/>
                </a:solidFill>
                <a:latin typeface="Helvetica Neue"/>
              </a:rPr>
              <a:t>communicating findings, hypotheses, and insights 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from one person to another, across space and tim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organizing scientific communit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stablishing common nomenclature and terminology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necting related wor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veloping discipline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documenting, managing,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nd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 resolving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troversies and disagreement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establishing precedenc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r ideas and resul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offering evidence for the quality and significanc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of scientific work through citation and bibliometric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allenges to 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wo major challenges to the scientific record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Increasing complexity of experiments and data cause the linkages between evidence and writings to become more complex and elusiv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Increasing rate of the growth of the literature and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isciplines and sub-specialties branch and grow continuously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ools and practices were developed to help manage literature: specialized journals, citations, indices, review journals and bibliographies, managed vocabularies, and taxonomies in various areas of science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ese tools and practices are either non-existent or just beginning for data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ation of 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enets of the scientific record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hat scientific products are trustworthy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hat scientific products enable results to be reproducible and/or transparen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Preserving the scientific record: Data consideration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re data stored in a trustworthy institutional setting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re data documented in a way that ensures understandability, reproducibility, and transparency over time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spects of Preserva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ing relationships with arch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ing a record of environmental chan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ase studies [what should these be? Put images related to case studies in below space]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Hanson, B., A. Sugden, and B. Alberts. 2011. “Making data maximally available.” </a:t>
            </a:r>
            <a:r>
              <a:rPr b="0" i="1" lang="fr-FR" sz="3200" spc="-1" strike="noStrike">
                <a:solidFill>
                  <a:srgbClr val="606060"/>
                </a:solidFill>
                <a:latin typeface="Helvetica Neue"/>
              </a:rPr>
              <a:t>Science </a:t>
            </a:r>
            <a:r>
              <a:rPr b="0" lang="fr-FR" sz="3200" spc="-1" strike="noStrike">
                <a:solidFill>
                  <a:srgbClr val="606060"/>
                </a:solidFill>
                <a:latin typeface="Helvetica Neue"/>
              </a:rPr>
              <a:t>331(6018): 649.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dx.doi.org/10.1126/science.1203354</a:t>
            </a:r>
            <a:r>
              <a:rPr b="0" lang="fr-FR" sz="32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ynch, C. 2009. “Jim Gray’s Fourth Paradigm and the Construction of the Scientific Record.” In 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The Fourth Paradigm: Data-Intensive Scientific Discovery, 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dited by T. Hey, S. Tansley, &amp; K. Tolle,137-146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. 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dmond, WA: Microsoft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. </a:t>
            </a:r>
            <a:r>
              <a:rPr b="0" i="1" lang="en-US" sz="32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research.microsoft.com/en-us/collaboration/fourthparadigm/4th_paradigm_book_part4_lynch.pdf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Uhlir, P.F. and P. Schröder. 2007. “Open data for global science.” 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Data Science Journal 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Volume 6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jstage.jst.go.jp/article/dsj/6/0/OD36/_pdf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ifiable scienc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lements of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ing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ing documentation and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yernik</cp:lastModifiedBy>
  <dcterms:modified xsi:type="dcterms:W3CDTF">2011-09-29T15:09:41Z</dcterms:modified>
  <cp:revision>285</cp:revision>
  <dc:subject/>
  <dc:title>ESIP Federation 101</dc:title>
</cp:coreProperties>
</file>